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7245-35F0-42A1-873B-77F79FBBD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2953-52AD-408F-BD3D-C9A83CE05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926-0BA1-48F5-9A50-26C86F83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F60-F0F8-4CCB-B59D-AE60AEBE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E3F-C4AD-4C6D-81DA-D5A789D5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2FB-FBCB-42FA-828B-0B8CC65E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B1C7-561C-4595-B328-A4667CF3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6FEB-DF4A-4E0F-98CD-3407C33F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094-484B-4C31-A1EB-22A8FCD3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5FC-F1F1-4A9E-80A5-49CA32B3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76E-46F2-4DF2-94DD-C9C977B3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C92-C9B6-4536-82E5-B0611E8A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464-299D-40F8-95E5-78139C3C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C2B-1C01-4B7A-B8E9-3E7110A9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8E92-F6E4-45BB-9A8D-AC8F26FE6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28600" y="228600"/>
            <a:ext cx="83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  <a:ea typeface="Arial"/>
              </a:rPr>
              <a:t>Possible Entr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809880" y="3657600"/>
            <a:ext cx="1879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3809880" y="3276720"/>
            <a:ext cx="1997280" cy="169056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733920" y="1523880"/>
            <a:ext cx="2073240" cy="99864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6629400" y="2286000"/>
            <a:ext cx="2073240" cy="99864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 flipV="1">
            <a:off x="4800600" y="2514600"/>
            <a:ext cx="0" cy="730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 flipV="1">
            <a:off x="5562720" y="3048120"/>
            <a:ext cx="1190520" cy="4982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7086600" y="2590920"/>
            <a:ext cx="1306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6705720" y="4114800"/>
            <a:ext cx="2151000" cy="96048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5791320" y="4191120"/>
            <a:ext cx="998280" cy="1918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6"/>
          <p:cNvSpPr/>
          <p:nvPr/>
        </p:nvSpPr>
        <p:spPr>
          <a:xfrm>
            <a:off x="3733920" y="5562720"/>
            <a:ext cx="2073240" cy="99828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4800600" y="4952880"/>
            <a:ext cx="0" cy="6145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9"/>
          <p:cNvSpPr/>
          <p:nvPr/>
        </p:nvSpPr>
        <p:spPr>
          <a:xfrm>
            <a:off x="609480" y="4419720"/>
            <a:ext cx="2303640" cy="115236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 flipH="1">
            <a:off x="2819160" y="4572000"/>
            <a:ext cx="1152360" cy="2300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2"/>
          <p:cNvSpPr/>
          <p:nvPr/>
        </p:nvSpPr>
        <p:spPr>
          <a:xfrm>
            <a:off x="1143000" y="2590920"/>
            <a:ext cx="1766880" cy="96048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 flipH="1" flipV="1">
            <a:off x="2666880" y="3428640"/>
            <a:ext cx="1190880" cy="422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5486400" y="6553080"/>
            <a:ext cx="40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uster Diagram”  Hyerle- Corwin Press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5:51:15Z</dcterms:created>
  <dc:creator>Ann Johnson</dc:creator>
  <dc:description/>
  <dc:language>en-US</dc:language>
  <cp:lastModifiedBy>Ann</cp:lastModifiedBy>
  <dcterms:modified xsi:type="dcterms:W3CDTF">2009-07-20T14:22:44Z</dcterms:modified>
  <cp:revision>7</cp:revision>
  <dc:subject/>
  <dc:title>Slide 1</dc:title>
</cp:coreProperties>
</file>